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DIAPO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08B6-BD3B-4F91-9B6D-D7E37E2E9B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5CB7-17E6-416C-BD6A-8A8907F4C8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305-3B97-43A7-AADE-7C913752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DA1-4307-4D3D-B805-CA32CE81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011-FA0D-4E58-9A8D-BDE36EF92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FFD-76BB-445F-AE56-54D93B2C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D00-3059-43D5-A9DA-4922EC7D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7814-664F-489C-8810-E2166399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1708-6948-4C06-9E7D-8262BC70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B20B-B826-4EB9-84A4-7BB99F45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B6A-5DDA-4C00-972B-76FA3DBA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AE8-80D6-4DF2-92A5-CBED3F8B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821B-4F59-4131-AB76-9F84EB02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CAD1-8DB1-4FF2-80DF-9E38A810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50000">
              <a:srgbClr val="ffffff"/>
            </a:gs>
            <a:gs pos="100000">
              <a:srgbClr val="0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1703-A7AF-47F3-9631-82B9AB1A052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DIAP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6160-0AD8-4242-92E0-5CDE3B29813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611280" y="2205000"/>
            <a:ext cx="792144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UNIVERSIDAD RICARDO PALMA</a:t>
            </a:r>
            <a:br>
              <a:rPr sz="3200"/>
            </a:br>
            <a:br>
              <a:rPr sz="1000"/>
            </a:b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Arial Narrow"/>
              </a:rPr>
              <a:t>ESCUELA DE POST GRADO</a:t>
            </a:r>
            <a:br>
              <a:rPr sz="36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es-MX" sz="3200" spc="-1" strike="noStrike">
                <a:solidFill>
                  <a:srgbClr val="000099"/>
                </a:solidFill>
                <a:latin typeface="Trebuchet MS"/>
              </a:rPr>
              <a:t> PSICOLOGÍA  EDUCATIVA </a:t>
            </a:r>
            <a:br>
              <a:rPr sz="3200"/>
            </a:b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UNIDAD II</a:t>
            </a:r>
            <a:br>
              <a:rPr sz="3200"/>
            </a:b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  PSICOLOGÍA Y SISTEMAS DE ENSEÑANZA</a:t>
            </a:r>
            <a:br>
              <a:rPr sz="4000"/>
            </a:br>
            <a:br>
              <a:rPr sz="2800"/>
            </a:b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Profesor: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Dr. José Anicama 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5 Rectángulo" descr=""/>
          <p:cNvPicPr/>
          <p:nvPr/>
        </p:nvPicPr>
        <p:blipFill>
          <a:blip r:embed="rId1"/>
          <a:stretch/>
        </p:blipFill>
        <p:spPr>
          <a:xfrm>
            <a:off x="4121280" y="5877000"/>
            <a:ext cx="987120" cy="517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D59C-E92A-4EE9-9C41-C1FDEEAA2F8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3200" y="1339920"/>
            <a:ext cx="41148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a50021"/>
                </a:solidFill>
                <a:latin typeface="Times New Roman"/>
              </a:rPr>
              <a:t>Objetiv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6560" y="3119040"/>
            <a:ext cx="6605640" cy="150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Discriminar y valorar los componentes de un sistema general de enseñanz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E4477-6500-4207-B5EB-151ACE16F3B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610000" y="304920"/>
            <a:ext cx="3495600" cy="56664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Times New Roman"/>
              </a:rPr>
              <a:t>SISTEMA GENERAL DE ENSEÑA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6319800" y="1871640"/>
            <a:ext cx="2567160" cy="5652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STEMA DE ENSEÑA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12720" y="1833480"/>
            <a:ext cx="2782800" cy="5652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SISTEMA DE ADMINIST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3362400"/>
            <a:ext cx="99072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INFRAES_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TRUCTUR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FÍSI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066680" y="3352680"/>
            <a:ext cx="106704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ECONOM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FINANCI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09680" y="3352680"/>
            <a:ext cx="99072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RECURS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HUMAN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352680" y="3352680"/>
            <a:ext cx="137160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PROGRAMAS DE CAPACITACION Y EDUCACIÓ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CONTINU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4764240" y="3352680"/>
            <a:ext cx="1341360" cy="212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RECURSOS PARA ENSEÑANZ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·</a:t>
            </a: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Biblioteca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·</a:t>
            </a: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Hemerotec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·</a:t>
            </a: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Base de Datos CD-Room: Psycline, Medline, Lilac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Tahoma"/>
                <a:ea typeface="Times New Roman"/>
              </a:rPr>
              <a:t>·</a:t>
            </a:r>
            <a:r>
              <a:rPr b="1" lang="es-ES" sz="1100" spc="-1" strike="noStrike">
                <a:solidFill>
                  <a:srgbClr val="000000"/>
                </a:solidFill>
                <a:latin typeface="Tahoma"/>
              </a:rPr>
              <a:t>Laboratorio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248520" y="3352680"/>
            <a:ext cx="137160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 DE APRENDIZ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731000" y="3352680"/>
            <a:ext cx="1413000" cy="126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SISTEMAS 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CONTEN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ahoma"/>
              </a:rPr>
              <a:t>INSTRUCCIO-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7086600" y="5181480"/>
            <a:ext cx="121932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Tahoma"/>
              </a:rPr>
              <a:t>PROGRA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Tahoma"/>
              </a:rPr>
              <a:t>DE ENSEÑA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00"/>
                </a:solidFill>
                <a:latin typeface="Tahoma"/>
              </a:rPr>
              <a:t>(Currícu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>
            <a:off x="471600" y="2786040"/>
            <a:ext cx="492120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>
            <a:off x="471600" y="2786040"/>
            <a:ext cx="0" cy="4255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>
            <a:off x="4037040" y="2786040"/>
            <a:ext cx="0" cy="4255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6"/>
          <p:cNvSpPr/>
          <p:nvPr/>
        </p:nvSpPr>
        <p:spPr>
          <a:xfrm>
            <a:off x="2824200" y="2814480"/>
            <a:ext cx="0" cy="4240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7"/>
          <p:cNvSpPr/>
          <p:nvPr/>
        </p:nvSpPr>
        <p:spPr>
          <a:xfrm>
            <a:off x="5392800" y="2786040"/>
            <a:ext cx="0" cy="42552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>
            <a:off x="1611360" y="2398680"/>
            <a:ext cx="0" cy="8492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1968480" y="946080"/>
            <a:ext cx="2139840" cy="8492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4394160" y="946080"/>
            <a:ext cx="3138480" cy="8492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 flipH="1">
            <a:off x="6989400" y="2513160"/>
            <a:ext cx="500040" cy="8492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45400" y="2503440"/>
            <a:ext cx="571680" cy="84924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6781680" y="4648320"/>
            <a:ext cx="0" cy="101268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8610480" y="4648320"/>
            <a:ext cx="0" cy="91440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5"/>
          <p:cNvSpPr/>
          <p:nvPr/>
        </p:nvSpPr>
        <p:spPr>
          <a:xfrm>
            <a:off x="8305920" y="5562720"/>
            <a:ext cx="30456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571680" y="6134040"/>
            <a:ext cx="81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a50021"/>
                </a:solidFill>
                <a:latin typeface="Tahoma"/>
              </a:rPr>
              <a:t>Figura Nº 1 : Esquema de Componentes de un Sistema General de Enseñanza.</a:t>
            </a:r>
            <a:br>
              <a:rPr sz="1600"/>
            </a:br>
            <a:r>
              <a:rPr b="1" lang="es-ES" sz="1600" spc="-1" strike="noStrike">
                <a:solidFill>
                  <a:srgbClr val="a50021"/>
                </a:solidFill>
                <a:latin typeface="Tahoma"/>
              </a:rPr>
              <a:t>                       Revisado  Anicama, J. 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7"/>
          <p:cNvSpPr/>
          <p:nvPr/>
        </p:nvSpPr>
        <p:spPr>
          <a:xfrm>
            <a:off x="6781680" y="5638680"/>
            <a:ext cx="304920" cy="0"/>
          </a:xfrm>
          <a:prstGeom prst="line">
            <a:avLst/>
          </a:prstGeom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8" descr="ORGANIZO"/>
          <p:cNvPicPr/>
          <p:nvPr/>
        </p:nvPicPr>
        <p:blipFill>
          <a:blip r:embed="rId1"/>
          <a:stretch/>
        </p:blipFill>
        <p:spPr>
          <a:xfrm>
            <a:off x="274680" y="274680"/>
            <a:ext cx="919080" cy="1290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2" name="DIAPO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3B30-83E3-41EF-87E5-79D81A0901F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2"/>
          <p:cNvSpPr/>
          <p:nvPr/>
        </p:nvSpPr>
        <p:spPr>
          <a:xfrm>
            <a:off x="3419640" y="907920"/>
            <a:ext cx="2592360" cy="136872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Alum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3"/>
          <p:cNvSpPr/>
          <p:nvPr/>
        </p:nvSpPr>
        <p:spPr>
          <a:xfrm>
            <a:off x="539640" y="3645000"/>
            <a:ext cx="2590920" cy="143964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Profe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"/>
          <p:cNvSpPr/>
          <p:nvPr/>
        </p:nvSpPr>
        <p:spPr>
          <a:xfrm>
            <a:off x="6227640" y="3573360"/>
            <a:ext cx="2519640" cy="1440000"/>
          </a:xfrm>
          <a:prstGeom prst="ellipse">
            <a:avLst/>
          </a:prstGeom>
          <a:solidFill>
            <a:srgbClr val="ffcc00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Plan d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Curr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5"/>
          <p:cNvSpPr/>
          <p:nvPr/>
        </p:nvSpPr>
        <p:spPr>
          <a:xfrm flipV="1">
            <a:off x="1979640" y="2205000"/>
            <a:ext cx="2158920" cy="144000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6"/>
          <p:cNvSpPr/>
          <p:nvPr/>
        </p:nvSpPr>
        <p:spPr>
          <a:xfrm>
            <a:off x="5292720" y="2205000"/>
            <a:ext cx="2158920" cy="1368360"/>
          </a:xfrm>
          <a:prstGeom prst="line">
            <a:avLst/>
          </a:prstGeom>
          <a:ln w="2844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3132000" y="4365720"/>
            <a:ext cx="3097440" cy="0"/>
          </a:xfrm>
          <a:prstGeom prst="line">
            <a:avLst/>
          </a:prstGeom>
          <a:ln w="38160">
            <a:solidFill>
              <a:srgbClr val="99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68360" y="5516640"/>
            <a:ext cx="8139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Tahoma"/>
              </a:rPr>
              <a:t>Figura Nº 2 : Elementos básicos de un sistem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a50021"/>
                </a:solidFill>
                <a:latin typeface="Tahoma"/>
              </a:rPr>
              <a:t>enseñanza-aprendizaj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6:21:08Z</dcterms:created>
  <dc:creator>softime</dc:creator>
  <dc:description/>
  <dc:language>en-US</dc:language>
  <cp:lastModifiedBy>jose.anicama</cp:lastModifiedBy>
  <dcterms:modified xsi:type="dcterms:W3CDTF">2009-04-03T19:23:50Z</dcterms:modified>
  <cp:revision>55</cp:revision>
  <dc:subject/>
  <dc:title>Sin título de diapositiva</dc:title>
</cp:coreProperties>
</file>